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049-6DED-446E-B1C5-7A5138E0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ABC-7496-4F22-BA4B-6D6F1F84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7AA-46E4-4520-97EE-9E4225E9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8BB-7E38-44F1-AD5F-09A332E9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E134-636A-4D28-BBD6-B1304280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50DF-E00D-4BA6-B185-76039F6C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A596-0F36-4765-ACE9-3A7849A4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2010-805A-4E31-89A1-5DB15C26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891C-C653-4596-BA21-792033DE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5032-CEE3-4B7A-83D9-845CFDA1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E6EE-CCAA-49F8-A20E-2910DE7B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395-D84B-483E-8C7D-81DBD765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4892-F2F3-4A00-9A77-667FAA93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7FD1-5DF9-4352-870B-560F250C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6F7B-D577-4767-AC13-949E11B9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F276-0073-498D-948B-CB04F764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CCD3-BD1F-4558-873E-703FE66C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846CA-162D-4CF6-B6D2-E3A7C525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8446-46B9-41E5-85B4-2F3D08D5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FB72-FC8D-43CD-921C-8CD2CDC0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B552-1318-430F-BDCF-C30C516C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274B-7292-445B-8FFA-E0B35DF2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2DA-F4D7-4109-A426-A0289944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5E13-0767-42EE-A3B0-A641AAF3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ED62-F3F9-47E1-BA80-CDE1E864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9ED8-1C8B-49E6-86A1-B660D48C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2E28-DF54-45F7-8A26-0AC332D1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30D13-DFF2-46DC-9A20-FAEFA9EC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793C-19FF-4938-AB99-5B864E26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14DF-E2D0-4671-A146-97E75EE4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F92CB-66A7-4837-9373-81D7CC84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C0726-68A2-4D1E-A201-2972B4B6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DDE92-94FD-4BD9-B251-1023332F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7AD-2DB2-4004-BC0E-94EF9E80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C8C2B-068F-4402-9AB0-928DB8F2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606BF-2B5E-4971-8FDF-9F45D25F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7D3E-365F-4395-9912-A3498573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04EE9-14B4-4F29-8E1B-8504CC6B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9A37D-83CC-4F07-8439-7C94DC12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39867-52CD-4E5F-B501-EAAE831E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6A6DA-BB5A-47FE-AF35-349A2184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47A0-1A80-43D8-9947-90AEAF57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B8CE4-5A5C-4F66-97B3-7045C7CA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7AD-F45B-4180-8E39-AD161746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475-6F07-4077-B252-F6F859AC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633-9E70-4C8F-B526-E893FF5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A06-2EBF-47F7-B16F-5EB4E502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05E-20E7-419E-8FE4-96F4A49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9C1D-14FA-4391-9144-FA8D8EFFE05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A997-32D1-456C-8517-46E2E69FC67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970F-11FF-49AE-948F-F2AAB2E2AC3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6D02-146C-41EB-BB17-D2BF15C2A30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w Smart Are The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in Ide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it true intelligence or just instinct (unthinking behavior)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. Evolution in wolves- behavior around their you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to evaluate animal intelligenc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in Ide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dea-Animals can think in human ways with human emotions and ide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dea-Clever Hans phenomenon-What is i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lligence used to be measured by math and language skills, but involves more such as memory, evaluation, and creati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imals are intelligent, but we can't apply human standards to animals-Wh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6:07:25Z</dcterms:created>
  <dc:creator> </dc:creator>
  <dc:description/>
  <dc:language>en-US</dc:language>
  <cp:lastModifiedBy> </cp:lastModifiedBy>
  <dcterms:modified xsi:type="dcterms:W3CDTF">2011-04-03T16:18:06Z</dcterms:modified>
  <cp:revision>1</cp:revision>
  <dc:subject/>
  <dc:title>Animal Intelligence</dc:title>
</cp:coreProperties>
</file>